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F38-AD1C-46F9-8F58-65C4DDC3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DD2-456D-4EE4-8644-2B1137F3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9744-852E-4F2E-92A8-8745A32E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EBF-0420-46C8-9171-AF6D9902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747-C9F5-4AF7-8079-247B84C1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35B-8E06-4CCA-8083-26299EA6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B7E-DF85-442E-B37D-97E62BE6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E07-BBAB-4F89-BCC6-DD3DA740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07D-ED34-41BD-BD0A-8552B160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EE4-75B6-4FA8-8B59-8FCA7F9E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8E2-B5CD-4425-AB88-EC06922C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296-4B74-453F-AE20-C89D0BAE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7AAF-854E-42E8-86B4-DAE6E886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CE79-CF14-461E-B3CD-2CF55F3F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1340-810C-43F7-814D-50BDA83C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33B4-FFA6-4AF7-82DC-05B44F58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593C-1615-4A5A-BAD9-EDE58F39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2228-B7EC-4291-834B-0455FA81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1034-DB09-4554-BE3B-C006CA21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D4EA-376A-47EE-965D-E6F2AAE3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FAEC-8FD9-462A-B269-364B19EB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CE2E-B111-48CA-99D0-8D9C355B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9FCB-B54D-4DE8-9885-060A9559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BF3C-970D-4A9E-8667-C70494D5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1FB27-D250-43E0-94AE-B87EC16C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A081-4D38-483E-BEFE-21428706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57CF-AD4E-4242-8AAE-88C7B2B7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8351A-461F-490A-BD98-B9AF5015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9C419-DA48-46EA-9288-1AA98C91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2AA3-1751-46F0-848A-F4C98EE7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A7DFC-9290-42C2-A691-966F6F4C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128F-C757-4167-B04B-8C1C1DB6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AC783-A241-4903-ABD8-A31878E7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654ED-24B1-4B87-B6CD-767ED8C1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037E7-AA0B-46D4-B926-2B47C8BA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58868-D647-4573-BAB5-D10FBEA4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18DF4-FF55-4EA2-8985-B06820C1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8A62E-4DB7-40DE-918B-19579491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266FF-0A5B-47E9-8BB9-8B9110C1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4C35F-8210-444B-8501-8F47EDE6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F5491-A452-441E-92A4-FF3DC614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0F88A-B79D-4B21-A4D7-B1D91E48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3CAF9-ED5C-4B88-826C-239670F0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49562-DF5E-401D-A81B-117BAF78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3FA9F-13BB-4FDF-9E8D-85A335ED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DBFD4-5CD7-45EB-A86A-889D4DB6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06328-39FC-4B9F-8F81-5F4ADE9C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C5009-A9EB-4FF5-AF29-6CBF489F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AD10-A990-4FA4-96DC-8E1CFCF84B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FC92-3E81-44CA-8CC2-ADA8FA0722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6091-79BB-442A-BA6B-F7862B7B20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6711-65CC-4079-97D2-1BE2A4B98A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2523240" y="4266360"/>
            <a:ext cx="46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　锐角三角函数的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2"/>
          <p:cNvGraphicFramePr/>
          <p:nvPr/>
        </p:nvGraphicFramePr>
        <p:xfrm>
          <a:off x="228600" y="1295280"/>
          <a:ext cx="8524800" cy="489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5248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Object 2"/>
          <p:cNvGraphicFramePr/>
          <p:nvPr/>
        </p:nvGraphicFramePr>
        <p:xfrm>
          <a:off x="152280" y="762120"/>
          <a:ext cx="836136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36136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Picture 301" descr="C:/Users/Administrator/Desktop/九数冀教版/S169.TIF"/>
          <p:cNvPicPr/>
          <p:nvPr/>
        </p:nvPicPr>
        <p:blipFill>
          <a:blip r:embed="rId3"/>
          <a:stretch/>
        </p:blipFill>
        <p:spPr>
          <a:xfrm>
            <a:off x="3276720" y="4876920"/>
            <a:ext cx="2209680" cy="1611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7088040" y="913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6630840" y="403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380880" y="1025640"/>
          <a:ext cx="8118720" cy="58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25640"/>
                    <a:ext cx="811872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3"/>
          <p:cNvSpPr/>
          <p:nvPr/>
        </p:nvSpPr>
        <p:spPr>
          <a:xfrm>
            <a:off x="2363400" y="12942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287440" y="4647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304920" y="1066680"/>
          <a:ext cx="8300880" cy="78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008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3"/>
          <p:cNvSpPr/>
          <p:nvPr/>
        </p:nvSpPr>
        <p:spPr>
          <a:xfrm>
            <a:off x="3092760" y="236124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3°7′48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Object 2"/>
          <p:cNvGraphicFramePr/>
          <p:nvPr/>
        </p:nvGraphicFramePr>
        <p:xfrm>
          <a:off x="380880" y="990720"/>
          <a:ext cx="8169480" cy="294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16948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4" name="Picture 302" descr="C:/Users/Administrator/Desktop/九数冀教版/S170.TIF"/>
          <p:cNvPicPr/>
          <p:nvPr/>
        </p:nvPicPr>
        <p:blipFill>
          <a:blip r:embed="rId3"/>
          <a:stretch/>
        </p:blipFill>
        <p:spPr>
          <a:xfrm>
            <a:off x="5257800" y="1676520"/>
            <a:ext cx="2133720" cy="153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Object 4"/>
          <p:cNvGraphicFramePr/>
          <p:nvPr/>
        </p:nvGraphicFramePr>
        <p:xfrm>
          <a:off x="2133720" y="3657600"/>
          <a:ext cx="1819080" cy="1595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3657600"/>
                    <a:ext cx="181908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28600" y="145872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地震发生后，一支专业搜救队驱车前往灾区救援．如图，汽车在一条南北走向的公路上向北行驶，当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处时，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全球卫星定位系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显示村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北偏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方向，汽车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速度前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到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处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显示村庄在北偏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方向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处到村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距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村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到该公路的距离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果精确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k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参考数据：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26°≈0.438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26°≈0.898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52°≈0.78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52°≈0.61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03" descr="C:/Users/Administrator/Desktop/九数冀教版/S172.TIF"/>
          <p:cNvPicPr/>
          <p:nvPr/>
        </p:nvPicPr>
        <p:blipFill>
          <a:blip r:embed="rId1"/>
          <a:stretch/>
        </p:blipFill>
        <p:spPr>
          <a:xfrm>
            <a:off x="6477120" y="4495680"/>
            <a:ext cx="110304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"/>
          <p:cNvSpPr/>
          <p:nvPr/>
        </p:nvSpPr>
        <p:spPr>
          <a:xfrm>
            <a:off x="1105920" y="502812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 k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5.2 k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Object 2"/>
          <p:cNvGraphicFramePr/>
          <p:nvPr/>
        </p:nvGraphicFramePr>
        <p:xfrm>
          <a:off x="533520" y="1066680"/>
          <a:ext cx="8199360" cy="797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8199360" cy="797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3"/>
          <p:cNvGraphicFramePr/>
          <p:nvPr/>
        </p:nvGraphicFramePr>
        <p:xfrm>
          <a:off x="1371600" y="2514600"/>
          <a:ext cx="5450040" cy="220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14600"/>
                    <a:ext cx="545004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4"/>
          <p:cNvGraphicFramePr/>
          <p:nvPr/>
        </p:nvGraphicFramePr>
        <p:xfrm>
          <a:off x="1752480" y="5562720"/>
          <a:ext cx="5315040" cy="782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5562720"/>
                    <a:ext cx="53150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814680" y="989640"/>
            <a:ext cx="73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试用计算器计算，并将结果直接填入表中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果精确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000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143000" y="1523880"/>
          <a:ext cx="6781680" cy="2362320"/>
        </p:xfrm>
        <a:graphic>
          <a:graphicData uri="http://schemas.openxmlformats.org/drawingml/2006/table">
            <a:tbl>
              <a:tblPr/>
              <a:tblGrid>
                <a:gridCol w="1519200"/>
                <a:gridCol w="895320"/>
                <a:gridCol w="895320"/>
                <a:gridCol w="895320"/>
                <a:gridCol w="895320"/>
                <a:gridCol w="895680"/>
                <a:gridCol w="78552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Object 37"/>
          <p:cNvGraphicFramePr/>
          <p:nvPr/>
        </p:nvGraphicFramePr>
        <p:xfrm>
          <a:off x="1600200" y="2133720"/>
          <a:ext cx="812880" cy="78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8128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Rectangle 38"/>
          <p:cNvSpPr/>
          <p:nvPr/>
        </p:nvSpPr>
        <p:spPr>
          <a:xfrm>
            <a:off x="1536840" y="4113720"/>
            <a:ext cx="42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比较表中数值，它能验证你的猜想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9"/>
          <p:cNvSpPr/>
          <p:nvPr/>
        </p:nvSpPr>
        <p:spPr>
          <a:xfrm>
            <a:off x="1946160" y="472428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利用直角三角形证明你的猜想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0"/>
          <p:cNvSpPr/>
          <p:nvPr/>
        </p:nvSpPr>
        <p:spPr>
          <a:xfrm>
            <a:off x="380880" y="51040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176 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364 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91 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747 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671 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1763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364 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91 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747 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671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41"/>
          <p:cNvGraphicFramePr/>
          <p:nvPr/>
        </p:nvGraphicFramePr>
        <p:xfrm>
          <a:off x="0" y="5867280"/>
          <a:ext cx="2946240" cy="782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4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867280"/>
                    <a:ext cx="2946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304920" y="1147680"/>
          <a:ext cx="8513640" cy="659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7680"/>
                    <a:ext cx="8513640" cy="65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3"/>
          <p:cNvSpPr/>
          <p:nvPr/>
        </p:nvSpPr>
        <p:spPr>
          <a:xfrm>
            <a:off x="2592000" y="258984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9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763200" y="59425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5.913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4107960" y="59425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6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2"/>
          <p:cNvGraphicFramePr/>
          <p:nvPr/>
        </p:nvGraphicFramePr>
        <p:xfrm>
          <a:off x="457200" y="1143000"/>
          <a:ext cx="8331120" cy="54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33112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3"/>
          <p:cNvSpPr/>
          <p:nvPr/>
        </p:nvSpPr>
        <p:spPr>
          <a:xfrm>
            <a:off x="3887640" y="1904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28600" y="73512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计算器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精确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000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°12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°40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°36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计算器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6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，它们的大小关系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6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6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6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6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2820600" y="144684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09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972880" y="190404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947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972880" y="25135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336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2363760" y="411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Object 2"/>
          <p:cNvGraphicFramePr/>
          <p:nvPr/>
        </p:nvGraphicFramePr>
        <p:xfrm>
          <a:off x="380880" y="1295280"/>
          <a:ext cx="8169480" cy="45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16948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3"/>
          <p:cNvSpPr/>
          <p:nvPr/>
        </p:nvSpPr>
        <p:spPr>
          <a:xfrm>
            <a:off x="2074320" y="19800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021000" y="1980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4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573440" y="2818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Object 2"/>
          <p:cNvGraphicFramePr/>
          <p:nvPr/>
        </p:nvGraphicFramePr>
        <p:xfrm>
          <a:off x="380880" y="1066680"/>
          <a:ext cx="8209080" cy="491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209080" cy="49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3"/>
          <p:cNvSpPr/>
          <p:nvPr/>
        </p:nvSpPr>
        <p:spPr>
          <a:xfrm>
            <a:off x="2135160" y="1599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067760" y="51044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2210760" y="51044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430080" y="51044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228600" y="129060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24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用计算器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约等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°38′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°22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°23′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°37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5945040" y="14468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2287440" y="411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304920" y="1061640"/>
            <a:ext cx="865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运用计算器计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度数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精确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°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9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精确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573440" y="1751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5995080" y="50281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6°52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491480" y="919080"/>
            <a:ext cx="5803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三角函数值，求锐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精确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″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锐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锐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2177640" y="2665800"/>
            <a:ext cx="16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°7′9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1848240" y="50281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8°41′24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g</dc:creator>
  <dc:description/>
  <dc:language>en-US</dc:language>
  <cp:lastModifiedBy>Microsoft</cp:lastModifiedBy>
  <dcterms:modified xsi:type="dcterms:W3CDTF">2015-11-22T05:25:45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